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EE1-F848-4A8B-916C-35BC3E8E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3BC-24BB-42AB-B792-C76662F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4B9-B177-41FF-BCE9-31A0B49F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8F6-3900-47E9-AA23-C75982DD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A3A-12BF-49C7-8EA5-90C50465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206-AD8E-4173-9066-26369BBF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6E7-DB76-4F2B-923D-2CBDB76D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2CD-A46F-4069-B2A3-CD305982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E71-BA5F-476A-91C5-1EBC981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4D2-B0D0-47FA-9948-EDF19D6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AD4-E827-4DAC-9281-CC2DB0D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861-C592-4700-8BFF-00AECD3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7695-1B1B-4F57-871E-F27CD4D9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ting with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Y Sc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61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lot tw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ta series against each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dd tre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3240000" cy="27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97" name=""/>
          <p:cNvGraphicFramePr/>
          <p:nvPr/>
        </p:nvGraphicFramePr>
        <p:xfrm>
          <a:off x="4716360" y="3213000"/>
          <a:ext cx="4103640" cy="297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3213000"/>
                    <a:ext cx="410364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5508720" y="4005000"/>
            <a:ext cx="2735280" cy="136836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ne series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e contribution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92360" y="2992320"/>
          <a:ext cx="5651640" cy="33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992320"/>
                    <a:ext cx="565164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447640" cy="15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gh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 pie chart, for two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7280" y="3209760"/>
            <a:ext cx="3564000" cy="16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8" name=""/>
          <p:cNvGraphicFramePr/>
          <p:nvPr/>
        </p:nvGraphicFramePr>
        <p:xfrm>
          <a:off x="4032360" y="2398680"/>
          <a:ext cx="4932360" cy="35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360" y="2398680"/>
                    <a:ext cx="493236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d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linder, cone,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exercise (5 minu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 (and sketch) an appropriate chart typ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t Wi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F11 key for instant char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t-student-nos.x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De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category colum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Ye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line (category label prob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xy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line year/nos (non adja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1, 2, 3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eg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4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5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ending existing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t menu/toolbar/shortcu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t typ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De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change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series (select &amp;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series (right-click – Sourc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series (Chart &gt; Add Data) or drag and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6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ing evals-based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ng a secondary 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series (dem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ome-profit-margin.x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(chart too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xis ta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select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change data poin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t 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(chart too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rror bars (baby heigh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-click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ight-click &amp; Format Data Series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Format&gt;Selected Data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-error bars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values or perce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s (plots mean and std-dev of all data – probably not what you w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 stored in worksheet (custom option and select cells to get positive and negative errors from (if +ve and –ve errors are eq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8 p. 51 Error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voiding 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takes: Plotting data out of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2637000"/>
          <a:ext cx="4032360" cy="294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37000"/>
                    <a:ext cx="403236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00720" y="2637000"/>
          <a:ext cx="4032000" cy="294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637000"/>
                    <a:ext cx="403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cl.ac.uk/is/training/exercis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Excel2002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ndows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r:\training.dir\excel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Misleading sc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5400" y="2349360"/>
            <a:ext cx="1992240" cy="215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4067280" y="1413000"/>
          <a:ext cx="432108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413000"/>
                    <a:ext cx="432108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067280" y="3832200"/>
          <a:ext cx="4321080" cy="3025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832200"/>
                    <a:ext cx="43210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Aspec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446800" y="1700280"/>
          <a:ext cx="27972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0" y="1700280"/>
                    <a:ext cx="2797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9280" y="2421000"/>
          <a:ext cx="4759560" cy="20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421000"/>
                    <a:ext cx="475956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Category chart for valu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2398680"/>
          <a:ext cx="4038480" cy="292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8680"/>
                    <a:ext cx="403848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48320" y="2386080"/>
          <a:ext cx="4495680" cy="298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86080"/>
                    <a:ext cx="449568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Too many slices of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386080"/>
          <a:ext cx="4038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86080"/>
                    <a:ext cx="4038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2386080"/>
          <a:ext cx="4038480" cy="29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86080"/>
                    <a:ext cx="4038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42920" y="1830240"/>
          <a:ext cx="691380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30240"/>
                    <a:ext cx="69138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Insufficien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xis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us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a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ing common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81640" y="2960640"/>
            <a:ext cx="1807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use cha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ist understanding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2952720" cy="27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6000" y="2421000"/>
          <a:ext cx="4545000" cy="383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2421000"/>
                    <a:ext cx="454500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to u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item to other items 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student numbers for different depar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data over time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student numbers since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relative comparisons 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proportion labour, tory, lib dem, green,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data relationships 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marketing expenditure/student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38560" y="310788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0920" y="1916280"/>
          <a:ext cx="5940720" cy="359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594072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990160" y="1484280"/>
            <a:ext cx="5258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Data point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(bars, lines, columns, sectors,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05400" y="5950080"/>
            <a:ext cx="3127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Serie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(data points which come from same row or colu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292640"/>
            <a:ext cx="144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Value axi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(y-ax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5950080"/>
            <a:ext cx="180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Category axi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(x-ax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73440" y="42926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781360"/>
            <a:ext cx="1944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Scale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(min, max, incr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373720"/>
            <a:ext cx="1655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Gridlines 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(major &amp; min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08360" y="4868640"/>
            <a:ext cx="503280" cy="10810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92360" y="4005360"/>
            <a:ext cx="1584360" cy="19447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156360" y="3357360"/>
            <a:ext cx="720720" cy="25923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812000" y="3789360"/>
            <a:ext cx="720720" cy="5032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403280" y="2708280"/>
            <a:ext cx="1081080" cy="216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2924280"/>
            <a:ext cx="1513080" cy="1800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92360" y="4005360"/>
            <a:ext cx="1295280" cy="576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19280" y="4508640"/>
            <a:ext cx="1297080" cy="12254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19280" y="4652640"/>
            <a:ext cx="1368360" cy="10810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63640" y="1773360"/>
            <a:ext cx="144360" cy="1942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1773360"/>
            <a:ext cx="142920" cy="1150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umn &amp; Bar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rtic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rizon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compare discrete item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eople, countries,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categ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277812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1" name=""/>
          <p:cNvGraphicFramePr/>
          <p:nvPr/>
        </p:nvGraphicFramePr>
        <p:xfrm>
          <a:off x="468360" y="3789360"/>
          <a:ext cx="3390840" cy="2657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789360"/>
                    <a:ext cx="33908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932360" y="3789360"/>
          <a:ext cx="3400560" cy="2666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3789360"/>
                    <a:ext cx="34005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plot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ful for trends over time o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283520" cy="9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8" name=""/>
          <p:cNvGraphicFramePr/>
          <p:nvPr/>
        </p:nvGraphicFramePr>
        <p:xfrm>
          <a:off x="2195640" y="3828960"/>
          <a:ext cx="5554440" cy="284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828960"/>
                    <a:ext cx="555444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e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 line chart, coloured in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s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3068640"/>
          <a:ext cx="586728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068640"/>
                    <a:ext cx="58672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56:20Z</dcterms:created>
  <dc:creator>ccaafis</dc:creator>
  <dc:description/>
  <dc:language>en-US</dc:language>
  <cp:lastModifiedBy>Fiona Strawbridge</cp:lastModifiedBy>
  <dcterms:modified xsi:type="dcterms:W3CDTF">2005-05-05T16:10:53Z</dcterms:modified>
  <cp:revision>19</cp:revision>
  <dc:subject/>
  <dc:title>Charting with Excel</dc:title>
</cp:coreProperties>
</file>